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C90-4E52-4ECF-9D37-3B22F931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B45-0213-4839-98B5-B5A54977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622-E876-490A-9E9F-2DE0E03D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3EA-C13B-4464-B87E-9068B56A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98E-DFAB-4EA5-B566-9A42F3B1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94B-3F2A-4AF9-A39D-91E83E1E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E1B-5CB0-41EC-8461-D07123FE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262-4B12-4791-B8AF-2772132A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483-8A28-48C6-8163-34B0803F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C6B-DD24-477E-8813-4AC79A77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87C-4C9E-47A1-9578-4CB72EEE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F10-F2B5-46A8-B9BD-CA7259E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5249-1763-4ECD-8ED3-765DD7CA4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fredsisley.org/" TargetMode="External"/><Relationship Id="rId3" Type="http://schemas.openxmlformats.org/officeDocument/2006/relationships/hyperlink" Target="http://www.artchive.com/artchive/S/sisley.html" TargetMode="External"/><Relationship Id="rId4" Type="http://schemas.openxmlformats.org/officeDocument/2006/relationships/hyperlink" Target="http://www.biography.com/impressionists/sisley-bio.jsp" TargetMode="External"/><Relationship Id="rId5" Type="http://schemas.openxmlformats.org/officeDocument/2006/relationships/hyperlink" Target="http://www.metmuseum.org/toah/hd/imml/hd_imml.htm" TargetMode="External"/><Relationship Id="rId6" Type="http://schemas.openxmlformats.org/officeDocument/2006/relationships/hyperlink" Target="http://www.metmuseum.org/toah/hd/imml/hd_imml.htm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roadway BT"/>
              </a:rPr>
              <a:t>Alfred Sisley &amp; Impress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67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Forte"/>
              </a:rPr>
              <a:t>By Alicia T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©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670040" cy="1162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29000" y="4495680"/>
            <a:ext cx="2209680" cy="1874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715000" y="762120"/>
            <a:ext cx="24764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5790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fredsisley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rtchive.com/artchive/S/sisley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biography.com/impressionists/sisley-bio.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metmuseum.org/toah/hd/imml/hd_imml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roadway BT"/>
              </a:rPr>
              <a:t>Alfred Si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He was an English impressionist landscape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He was considered the most consistent artist because he never deviated into figure painting or finding movements that don’t meet his artistic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7800" y="2361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S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730760" cy="6400800"/>
          </a:xfrm>
          <a:prstGeom prst="rect">
            <a:avLst/>
          </a:prstGeom>
          <a:ln w="34920">
            <a:solidFill>
              <a:srgbClr val="00cc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1880" y="4343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38680" y="914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86400" y="3886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848720" y="304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543800" y="2057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7086600" y="5410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Forte"/>
              </a:rPr>
              <a:t>Alfred Si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5790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He was born in Paris on October 30, 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He died January 29, 1899 or throat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He was inspired by Turner, Bonnington, and Con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99"/>
                </a:solidFill>
                <a:latin typeface="Forte"/>
              </a:rPr>
              <a:t>Bridge at Villeneuve-la-Garen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086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roadway BT"/>
              </a:rPr>
              <a:t>Pain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Alfred Sisley painted over 900 oil pain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Fewer than a dozen were still lif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Only one or two were genr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51055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roadway BT"/>
              </a:rPr>
              <a:t>Impress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Bradley Hand ITC"/>
              </a:rPr>
              <a:t>Began in 1874 by the Anonymous Society of Painters, Sculptors, Printmak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Bradley Hand ITC"/>
              </a:rPr>
              <a:t>Contributed to design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Bradley Hand ITC"/>
              </a:rPr>
              <a:t>Showed public gardens, wide boulevards, grand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3124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Forte"/>
              </a:rPr>
              <a:t>Alfred Si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86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5:48:17Z</dcterms:created>
  <dc:creator>Alicia Tsai</dc:creator>
  <dc:description/>
  <dc:language>en-US</dc:language>
  <cp:lastModifiedBy>asmith</cp:lastModifiedBy>
  <dcterms:modified xsi:type="dcterms:W3CDTF">2011-10-05T01:22:13Z</dcterms:modified>
  <cp:revision>7</cp:revision>
  <dc:subject/>
  <dc:title>Alfred Sisley &amp; Impressionism</dc:title>
</cp:coreProperties>
</file>